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0.gif" ContentType="image/gif"/>
  <Override PartName="/ppt/media/image8.jpeg" ContentType="image/jpeg"/>
  <Override PartName="/ppt/media/image7.jpeg" ContentType="image/jpeg"/>
  <Override PartName="/ppt/media/image15.gif" ContentType="image/gif"/>
  <Override PartName="/ppt/media/image6.png" ContentType="image/png"/>
  <Override PartName="/ppt/media/image11.gif" ContentType="image/gif"/>
  <Override PartName="/ppt/media/image5.jpeg" ContentType="image/jpeg"/>
  <Override PartName="/ppt/media/image13.gif" ContentType="image/gif"/>
  <Override PartName="/ppt/media/image23.gif" ContentType="image/gif"/>
  <Override PartName="/ppt/media/image21.gif" ContentType="image/gif"/>
  <Override PartName="/ppt/media/image19.gif" ContentType="image/gif"/>
  <Override PartName="/ppt/media/image1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9.jpeg" ContentType="image/jpeg"/>
  <Override PartName="/ppt/media/image14.gif" ContentType="image/gif"/>
  <Override PartName="/ppt/media/image2.png" ContentType="image/png"/>
  <Override PartName="/ppt/media/image22.gif" ContentType="image/gif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31AE-AE64-4D8D-A600-81FBDEB3B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69EB-8EA5-4400-A5B7-FB98A7D8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378C-9541-4500-9EE1-33FF0E95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EE29-C105-4D81-A26B-FDB6E874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2B97-D0DC-4EAB-93F7-D396DED3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8847-2F1C-439F-9DEB-98827AB2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BE6C-2CEE-4D20-B1E8-61B53D07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924A-C480-4EC8-BDDF-906D9702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2162-9230-410A-859F-D45BD1E1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1E65-15FF-4A7C-8887-EFC7FC53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5618-3C7D-4FE6-9A84-B41273D4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39A1-2312-486E-B6F2-1A6EF982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C5A8-13B8-4EE0-A3B4-FDDF18A8D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mages.google.co.uk/imgres?imgurl=http://motivate.maths.org/conferences/conf36/mouth.gif&amp;imgrefurl=http://www.onovopolitico.blogspot.com/&amp;h=165&amp;w=248&amp;sz=2&amp;tbnid=YrwMjOPSKyEJ:&amp;tbnh=70&amp;tbnw=105&amp;start=2&amp;prev=/images%3Fq%3Dmouth%26hl%3Den%26lr%3D%26sa%3DN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mages.google.co.uk/imgres?imgurl=http://www.sla.purdue.edu/academic/fll/JapanProj/FLClipart/Medical/shoulders.gif&amp;imgrefurl=http://www.sla.purdue.edu/academic/fll/JapanProj/FLClipart/Medical.html&amp;h=716&amp;w=901&amp;sz=8&amp;tbnid=yNVAhHJjwdYJ:&amp;tbnh=116&amp;tbnw=146&amp;start=2&amp;prev=/images%3Fq%3Dshoulders%26hl%3Den%26lr%3D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images.google.co.uk/imgres?imgurl=http://www.eslkidstuff.com/images/elbow.gif&amp;imgrefurl=http://www.eyeranian.net/2003/June/index.shtml&amp;h=277&amp;w=314&amp;sz=4&amp;tbnid=AHny_l7qr88J:&amp;tbnh=99&amp;tbnw=112&amp;start=15&amp;prev=/images%3Fq%3Delbow%26hl%3Den%26lr%3D" TargetMode="External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1.gif"/><Relationship Id="rId3" Type="http://schemas.openxmlformats.org/officeDocument/2006/relationships/image" Target="../media/image20.gif"/><Relationship Id="rId4" Type="http://schemas.openxmlformats.org/officeDocument/2006/relationships/image" Target="../media/image19.gif"/><Relationship Id="rId5" Type="http://schemas.openxmlformats.org/officeDocument/2006/relationships/image" Target="../media/image10.gif"/><Relationship Id="rId6" Type="http://schemas.openxmlformats.org/officeDocument/2006/relationships/image" Target="../media/image18.gif"/><Relationship Id="rId7" Type="http://schemas.openxmlformats.org/officeDocument/2006/relationships/image" Target="../media/image17.gif"/><Relationship Id="rId8" Type="http://schemas.openxmlformats.org/officeDocument/2006/relationships/image" Target="../media/image1.gif"/><Relationship Id="rId9" Type="http://schemas.openxmlformats.org/officeDocument/2006/relationships/image" Target="../media/image16.gif"/><Relationship Id="rId10" Type="http://schemas.openxmlformats.org/officeDocument/2006/relationships/image" Target="../media/image15.gif"/><Relationship Id="rId11" Type="http://schemas.openxmlformats.org/officeDocument/2006/relationships/image" Target="../media/image11.gif"/><Relationship Id="rId12" Type="http://schemas.openxmlformats.org/officeDocument/2006/relationships/image" Target="../media/image12.gif"/><Relationship Id="rId13" Type="http://schemas.openxmlformats.org/officeDocument/2006/relationships/image" Target="../media/image13.gif"/><Relationship Id="rId14" Type="http://schemas.openxmlformats.org/officeDocument/2006/relationships/image" Target="../media/image14.gif"/><Relationship Id="rId1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9640" y="1700280"/>
            <a:ext cx="3240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0000" spc="-1" strike="noStrike">
                <a:solidFill>
                  <a:srgbClr val="000000"/>
                </a:solidFill>
                <a:latin typeface="Arial"/>
              </a:rPr>
              <a:t>foo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84360" y="3284640"/>
            <a:ext cx="3240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0000" spc="-1" strike="noStrike">
                <a:solidFill>
                  <a:srgbClr val="000000"/>
                </a:solidFill>
                <a:latin typeface="Arial"/>
              </a:rPr>
              <a:t>pi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79640" y="1700280"/>
            <a:ext cx="5113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00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3284640"/>
            <a:ext cx="6335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0000" spc="-1" strike="noStrike">
                <a:solidFill>
                  <a:srgbClr val="000000"/>
                </a:solidFill>
                <a:latin typeface="Arial"/>
              </a:rPr>
              <a:t>cuerpo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155736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revise how to complain about ill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complete a dialogue for at doctor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translate a dialo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08000" y="2852640"/>
            <a:ext cx="5472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Al medic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95280" y="119700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¿Qué le suce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843280" y="2133720"/>
            <a:ext cx="2897280" cy="2896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4360" y="5084640"/>
            <a:ext cx="68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¿En qué le puedo ayud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26920" y="105264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e duel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494172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engo dolor d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1908000" y="1341360"/>
            <a:ext cx="1428480" cy="1638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2484360" y="3213000"/>
            <a:ext cx="1276200" cy="1181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-1476360" y="4941720"/>
            <a:ext cx="1143000" cy="1524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9396360" y="692280"/>
            <a:ext cx="1371600" cy="1466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9396360" y="3500280"/>
            <a:ext cx="173376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-1620720" y="3284640"/>
            <a:ext cx="1066680" cy="1523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-2124000" y="0"/>
            <a:ext cx="1908000" cy="1101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1"/>
          <a:stretch/>
        </p:blipFill>
        <p:spPr>
          <a:xfrm>
            <a:off x="9468000" y="5518080"/>
            <a:ext cx="198108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1.36847E-006 L 1.32291 -0.17823 E">
                                      <p:cBhvr>
                                        <p:cTn id="110" dur="3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8.02127E-006 L -1.34653 -0.35646 E">
                                      <p:cBhvr>
                                        <p:cTn id="114" dur="3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06981E-006 L 1.29149 0.08391 E">
                                      <p:cBhvr>
                                        <p:cTn id="118" dur="3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7.16597E-007 L -1.29948 0.67106 E">
                                      <p:cBhvr>
                                        <p:cTn id="122" dur="3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62598E-006 L 1.36233 0.0104 E">
                                      <p:cBhvr>
                                        <p:cTn id="126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6.72215E-006 L 1.25226 -0.0208 E">
                                      <p:cBhvr>
                                        <p:cTn id="130" dur="3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4337E-006 L -1.34653 -0.45076 E">
                                      <p:cBhvr>
                                        <p:cTn id="134" dur="3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16000" y="400536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¿Desde cuándo le due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3760560" cy="3760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95640" y="479736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esde 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68360" y="566100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esde hace una sem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95640" y="2476440"/>
            <a:ext cx="3328920" cy="3328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00000" y="105264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¿Es gra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124000" y="1665360"/>
            <a:ext cx="5616720" cy="4211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187280" y="90792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Arial"/>
              </a:rPr>
              <a:t>Me he cort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87280" y="162864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Arial"/>
              </a:rPr>
              <a:t>Quiero una tir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619440" y="2476440"/>
            <a:ext cx="412128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03280" y="836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Arial"/>
              </a:rPr>
              <a:t>Me he torcid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mi rodi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92360" y="2205000"/>
            <a:ext cx="23083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79640" y="1700280"/>
            <a:ext cx="3240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0000" spc="-1" strike="noStrike">
                <a:solidFill>
                  <a:srgbClr val="000000"/>
                </a:solidFill>
                <a:latin typeface="Arial"/>
              </a:rPr>
              <a:t>eye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84360" y="3284640"/>
            <a:ext cx="3240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0000" spc="-1" strike="noStrike">
                <a:solidFill>
                  <a:srgbClr val="000000"/>
                </a:solidFill>
                <a:latin typeface="Arial"/>
              </a:rPr>
              <a:t>ojo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03280" y="836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Arial"/>
                <a:ea typeface="Arial"/>
              </a:rPr>
              <a:t>Quiero una v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59280" y="2060640"/>
            <a:ext cx="32097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492360" y="2421000"/>
            <a:ext cx="3760920" cy="3760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258920" y="1341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Arial"/>
              </a:rPr>
              <a:t>Me he roto la pier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58920" y="1341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Arial"/>
              </a:rPr>
              <a:t>Quiero ir al 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éd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59280" y="2421000"/>
            <a:ext cx="289692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258920" y="1341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Arial"/>
              </a:rPr>
              <a:t>Me siento m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987640" y="2133720"/>
            <a:ext cx="30574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58920" y="1341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Arial"/>
              </a:rPr>
              <a:t>Estoy enfermo /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59280" y="2421000"/>
            <a:ext cx="376056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47640" y="9079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Arial"/>
              </a:rPr>
              <a:t>Tengo 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843280" y="2205000"/>
            <a:ext cx="354492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47640" y="9079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Arial"/>
              </a:rPr>
              <a:t>Tengo fieb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916360" y="1989000"/>
            <a:ext cx="33336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47640" y="9079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Arial"/>
              </a:rPr>
              <a:t>Tengo gri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03640" y="2004840"/>
            <a:ext cx="3313080" cy="33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47640" y="9079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Arial"/>
              </a:rPr>
              <a:t>Estoy resfri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348000" y="1989000"/>
            <a:ext cx="231444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47640" y="9079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Arial"/>
              </a:rPr>
              <a:t>Estoy constip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348000" y="1989000"/>
            <a:ext cx="231444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979640" y="1700280"/>
            <a:ext cx="3240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00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3284640"/>
            <a:ext cx="482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0000" spc="-1" strike="noStrike">
                <a:solidFill>
                  <a:srgbClr val="000000"/>
                </a:solidFill>
                <a:latin typeface="Arial"/>
              </a:rPr>
              <a:t>cabez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514520" cy="1873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050920" y="189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211640" y="33336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443640" y="26028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0" y="249228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1979640" y="2421000"/>
            <a:ext cx="1728720" cy="1944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3780000" y="2421000"/>
            <a:ext cx="1584000" cy="1966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5435640" y="2492280"/>
            <a:ext cx="1657440" cy="1657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9"/>
          <a:stretch/>
        </p:blipFill>
        <p:spPr>
          <a:xfrm>
            <a:off x="7164360" y="2492280"/>
            <a:ext cx="1655640" cy="1656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0"/>
          <a:stretch/>
        </p:blipFill>
        <p:spPr>
          <a:xfrm>
            <a:off x="0" y="4508640"/>
            <a:ext cx="1684440" cy="1749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1"/>
          <a:stretch/>
        </p:blipFill>
        <p:spPr>
          <a:xfrm>
            <a:off x="1692360" y="465300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2"/>
          <a:stretch/>
        </p:blipFill>
        <p:spPr>
          <a:xfrm>
            <a:off x="3348000" y="4653000"/>
            <a:ext cx="2016000" cy="1511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3"/>
          <a:stretch/>
        </p:blipFill>
        <p:spPr>
          <a:xfrm>
            <a:off x="5435640" y="4653000"/>
            <a:ext cx="1673280" cy="1673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4"/>
          <a:stretch/>
        </p:blipFill>
        <p:spPr>
          <a:xfrm>
            <a:off x="7451640" y="4508640"/>
            <a:ext cx="11336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9640" y="1700280"/>
            <a:ext cx="36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 he torcid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 he cortad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67280" y="17002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 tor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95640" y="2349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 cor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260280"/>
            <a:ext cx="842472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¿Cómo se dice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o hav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o have to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__________ qu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 had to (pret)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 had to go to the doctor - 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cause 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 cut myself 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 it was quite serious 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48000" y="83664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n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3640" y="14842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n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56000" y="213372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ve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59280" y="278136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ve que ir al med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24000" y="342900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16360" y="407664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 cor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88000" y="465300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 fue bastante gr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79640" y="1700280"/>
            <a:ext cx="5113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0000" spc="-1" strike="noStrike">
                <a:solidFill>
                  <a:srgbClr val="000000"/>
                </a:solidFill>
                <a:latin typeface="Arial"/>
              </a:rPr>
              <a:t>coraz</a:t>
            </a:r>
            <a:r>
              <a:rPr b="0" lang="en-US" sz="100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3284640"/>
            <a:ext cx="482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00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79640" y="1700280"/>
            <a:ext cx="5113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0000" spc="-1" strike="noStrike">
                <a:solidFill>
                  <a:srgbClr val="000000"/>
                </a:solidFill>
                <a:latin typeface="Arial"/>
              </a:rPr>
              <a:t>le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3284640"/>
            <a:ext cx="482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0000" spc="-1" strike="noStrike">
                <a:solidFill>
                  <a:srgbClr val="000000"/>
                </a:solidFill>
                <a:latin typeface="Arial"/>
              </a:rPr>
              <a:t>piern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79640" y="1700280"/>
            <a:ext cx="5113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00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84360" y="3284640"/>
            <a:ext cx="482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0000" spc="-1" strike="noStrike">
                <a:solidFill>
                  <a:srgbClr val="000000"/>
                </a:solidFill>
                <a:latin typeface="Arial"/>
              </a:rPr>
              <a:t>brazo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979640" y="1700280"/>
            <a:ext cx="5113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00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84360" y="3284640"/>
            <a:ext cx="6335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00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en-US" sz="10000" spc="-1" strike="noStrike">
                <a:solidFill>
                  <a:srgbClr val="000000"/>
                </a:solidFill>
                <a:latin typeface="Arial"/>
                <a:ea typeface="Arial"/>
              </a:rPr>
              <a:t>ómago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79640" y="1700280"/>
            <a:ext cx="5113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0000" spc="-1" strike="noStrike">
                <a:solidFill>
                  <a:srgbClr val="000000"/>
                </a:solidFill>
                <a:latin typeface="Arial"/>
              </a:rPr>
              <a:t>ches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3284640"/>
            <a:ext cx="6335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0000" spc="-1" strike="noStrike">
                <a:solidFill>
                  <a:srgbClr val="000000"/>
                </a:solidFill>
                <a:latin typeface="Arial"/>
              </a:rPr>
              <a:t>pecho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979640" y="1700280"/>
            <a:ext cx="5113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0000" spc="-1" strike="noStrike">
                <a:solidFill>
                  <a:srgbClr val="000000"/>
                </a:solidFill>
                <a:latin typeface="Arial"/>
              </a:rPr>
              <a:t>It hurt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328464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0000" spc="-1" strike="noStrike">
                <a:solidFill>
                  <a:srgbClr val="000000"/>
                </a:solidFill>
                <a:latin typeface="Arial"/>
              </a:rPr>
              <a:t>Me duele (n)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19:51:34Z</dcterms:created>
  <dc:creator>Alice</dc:creator>
  <dc:description/>
  <dc:language>en-US</dc:language>
  <cp:lastModifiedBy>Owner1</cp:lastModifiedBy>
  <dcterms:modified xsi:type="dcterms:W3CDTF">2008-10-19T14:04:38Z</dcterms:modified>
  <cp:revision>9</cp:revision>
  <dc:subject/>
  <dc:title>Slide 1</dc:title>
</cp:coreProperties>
</file>